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DFF3-CEC8-4747-A890-A2E6CBB47E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4DBC-1875-4D2B-ADE5-4ED0EDD1D9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5232-569D-459F-993B-753051D13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7380-B1AB-41C0-B99A-68F900902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D870-6421-4991-B1F4-F66E65B92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FBD0-02C6-47E5-9790-F9003FBE5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0348B-067B-455C-A331-1202E867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E8BC5-DAF0-43A3-8E52-C4F30EE9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B09B9-6B4C-4BA0-BD56-FD466EAB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C0788-BE52-4DFB-A17B-E7C295D3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CB79A-B09A-483F-950B-9E645225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28994-F908-4769-B82D-7BE924D6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E1FE1-B774-4283-9105-F9867225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9610-B821-4A3A-AD04-51C41B710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A139C-DDE7-4640-9A21-BA112CA3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E5AFD-6790-4D62-977E-B6DBB856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14A36-6DFC-4EF5-AC85-632BFD17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4B4AF-43AE-40E3-8940-6BD3C99E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D7291-2596-470A-83BA-DBD90036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15F89-8709-45C1-8EAB-90F9A472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6F530-CF8E-4CCE-92E6-A7697E0E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7E97BB-FD22-4C3F-AD8B-925479A9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E966D6-C63A-483B-96DD-31D78CDE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6239FE-2098-4EF3-9999-08722F76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EF9C-1F66-46A0-8BBC-63DA152B27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8F11D9-B3D3-4A67-B614-84089C30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AF9982-80D6-4590-B69F-271F6F30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508D0D-85FB-43C8-86A7-5D5F7CA3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F6E405-11D4-4761-958A-9767D889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5B32C-D526-49C3-9D54-1F241EE2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803145-985F-479A-97F3-437A827F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2F7E34-AC99-4F41-BA10-5D313509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ABA5F-CAE3-4ED4-A5E4-8800D7504D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DA379-F390-4E55-B94E-659B154A34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0B5F4-6370-475D-806D-F4D198FFE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17AD-FB95-44E1-88CE-C57E030D15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C72F6-7355-40FA-B736-08921FB875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CD7F3-2CAC-4080-AF24-DAE867A242F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08271-B5A2-4ED8-A0A6-FD23A6323F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823E2-930D-4E4C-9AE1-A93713B9FC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11B94-757F-4A9A-9BFF-394DD9CA13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62732-0C87-42C0-A590-9B7CA0CD77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1DBDB-4919-4D28-8571-141F60A799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47CB1-F032-439E-A12A-302AA0DC7A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E640E-3B33-4418-BC1A-42F34E6FC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F39D-0303-4C72-8783-B38669B72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4E0E-C471-43C2-8884-EDD63BF09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F225-BECC-4E98-9AFF-F69CF8644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B992-37B1-4D1C-B097-795449F25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67DE-009C-4405-B4F1-BE0F7DAA5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13C8-CF20-4446-9778-2DEF1238AB6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528C-3E7E-46D1-834B-26C9A641F0F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1AFC-C524-49BC-A310-E9407F10307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Transition from the CPD to the C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CDE9-B971-43FE-B98D-68F1B798AEC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riority issu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9EA9-4C86-482E-A8AD-CFDCF9C55EB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240" y="188604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anufacturers are working on CPR implementation which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es not introduce additional burdens and cos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eserves customers' confidence in the Declaration of Performance &amp; CE Mar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d hence in the products themsel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ith one single assessment of products valid everywhere in the EU and recognized by all the Members States and local author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ing users to check compliance with local regulations and fitness for u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C4C0-8682-4399-9EB0-C620A78DCFB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9040" y="100008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k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500120"/>
            <a:ext cx="8736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 (Article 7.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ation of the useful information to be provided on or with products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Information to be declared on Hazardous Substances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(Article 6.5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Need for clear procedure guaranteeing confidentiality and flexibility for “European Technical Assessments”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(Articles 19 – 26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voiding possible distortion of competi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rocedures to be applied for derogation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5)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and public inform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rocedures usable by micro-enterprises: Consequences for competition on the market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37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ontact Points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finition of types of information (free of charge or charged)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Recital 4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ransitional provisions to be applied for hENs on DoP, CE Marking and time schedule for products placed on the market before 01/07/2013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6.1-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Revision of hENs: Intended uses of products (and generic products) to be declared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6.4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Voluntary marks: Market needs have to be taken into account to define and use them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Recital 33, Article 8.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just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48C1-7461-471F-998E-D0E72A274DE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1</a:t>
            </a:r>
            <a:r>
              <a:rPr b="1" lang="en-GB" sz="23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 priority issues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133440"/>
            <a:ext cx="8713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nex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ority issue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47EF-DF16-47FC-8535-094C10398EA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240" y="1571400"/>
            <a:ext cx="873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Declaration of Performance” (Articles 4, 5, 6 &amp; 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 and information to be declared on Hazardous Substances and Substances of Very High Concer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Rules and conditions for applying the CE Marking” (Articles 8 &amp; 9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e the useful information to be provided e.g. on "performance(s) declared"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European Assessment Documents” &amp; “European Technical Assessments” (Articles 19 – 2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Need for clear procedure guaranteeing confidentiality and flexibility, mainly for new/innovative products and intended us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Basic requirements for construction works” (Article 3, Annex II and Recitals 6 &amp; 10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onitor the risk of creation of new barriers to trade through new European or National provision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Avoiding distortion of competition and discrimin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Derogations from drawing up a declaration of performance (Article 5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procedures and make publically available the products under derog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Procedures possibly used by micro-enterprises (Article 3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onitor possible consequences for competition on the marke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3893-612F-4EB8-86AA-ED19CB1C818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600" y="1571400"/>
            <a:ext cx="8772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hENs (Article 66.1-2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arify procedures to be applied on DoP &amp; CE Marking for products placed on the market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Revisions of existing harmonized standards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how the new terminology will be taken into account in technical specifications (Article 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need for declaring intended uses of products, including generic product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ETA Guides and CUAPs of the CPD (Article 66.3-4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Simplified procedures using Appropriate Technical Documentation (Article 3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aintain, as they are, procedures already used for "without testing and without further testing", for using test results obtained by another manufacturer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Voluntary marks (Recital 33, Article 8.3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arket needs have to be taken into account to define and use the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Contribution to define an efficient market surveillance (Article 56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velop exchanges of experience, and possibly with other industrial sector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6847-3CB3-4041-A01A-7E97AC0230F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858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katsage</cp:lastModifiedBy>
  <cp:lastPrinted>2000-03-16T10:24:10Z</cp:lastPrinted>
  <dcterms:modified xsi:type="dcterms:W3CDTF">2011-07-01T15:46:43Z</dcterms:modified>
  <cp:revision>538</cp:revision>
  <dc:subject/>
  <dc:title>Aucun titre de diapositive</dc:title>
</cp:coreProperties>
</file>